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1D15-3D4E-41EA-8E4B-2DF716F3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F152-3B46-4995-83F5-7EC01BE0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DC504-D3DC-41F7-8249-F0E90C5A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A957F-9AFE-4BD0-8896-D9FA18FD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02A90-AB6C-40FC-838B-270C4B39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7BCC0-ADEB-45AD-9258-D7499EF8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63EFE-0ED6-4EFA-AA45-77A9ABA0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740DE-7B7A-4F2B-9C7C-FCBA628C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F201B-CD63-4BB3-9E38-C101DAC0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56188-8A00-4D9A-A028-BA6E8FF9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F02DF-C2A5-46E7-B234-E33E1A2E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7E9E-E227-4756-8B02-922131E1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68B3-5604-4916-90B8-7387ECC5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CBA3A-CB68-46BD-81D8-3D76861C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AA0DF-046C-4CA0-B0E4-D56EBE1B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F0C70-4A7D-49C3-A653-398837CB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0AD17-B602-4453-827A-796D2C1D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19AAC-2583-43C7-BE74-90648C4F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5C27A-C037-48C7-8668-2DFBCC67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9DCD2-A9F3-4485-A745-9496D7CB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7C7-0EC0-48FB-9821-90A45CC3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E20D8-AD58-4BDF-9718-40F5E579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767F9-9AB7-47F3-90F5-95A7C71B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798B2-6CD5-43AE-86D2-825AAEAE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CA803-A563-460E-901F-F2EFD271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FA1C9-CA6F-4A55-B0AB-4AF384F4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16356-A4ED-49A4-B726-5E08A21E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C9FC0-2BD1-4E67-9150-39976BB4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46763-E1A8-4335-8B25-01896F59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14DC3-043E-4919-A19E-A2826DEC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87E46-0D4F-4BDD-94EE-33FEFBC3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5ADC-D6C8-442D-B3EF-E8754A81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F0E1B-8EA3-415E-8E5E-8B48B54D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F554E-9620-4A55-8F90-D475DF4F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9968C-8A02-4570-8340-CE952022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FB9A7-AD50-4A12-8723-0965FBC2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CD8D6-6FD6-43B3-9802-685A7516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CF3B9-0421-4016-963C-9F2C38EC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A5DD9-FAF5-4F5E-BB31-05282F0B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63AA5E-C403-4432-8D62-7F39B349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921E44-CABE-420B-A03F-204E5F04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CED3E6-7F7D-46BA-9CC9-241C6228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6BD0-EF03-4813-B4D2-8DC8B699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DA4F68-7DC6-4D70-9ADD-32431AA2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17FD06-0A71-4F35-892F-3ED019A0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231632-41D7-4260-B894-1CBFE164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A6D7FF-C930-49A8-AFBC-0201CF75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A2E591-612C-4383-8EBA-8F0545DF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341E8D-1BCE-4D77-B12E-551EBF63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2841B3-11DE-4DA1-BE49-6AE3FA92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94A13C-6788-4AB4-AC7E-E28AE125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47883C-9CF9-498E-915C-55BB88ED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B91F0-8BFB-46D7-8505-80F13958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6F5A-6502-4CDF-B76D-5115AF2C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9289C-7AC4-4E12-846D-E2480D1B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2F96F-0C86-4D24-9F6E-B181BC41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99BE5-F874-435D-8A8A-C2D5382C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36FD4-5756-4131-84A6-0F76F11D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44EC9-DE88-4123-B33B-CA7C8F14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B01B0-1CCD-404B-B2D8-82F13071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13449-8C28-4D95-B024-8E0FFAE9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25661-BFD4-4CAF-97A2-C3787B0D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88CBE-79F6-4D8B-90C3-A0BD5739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9B7E0-B4F9-44D6-A270-099A4FDE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69D2-310B-4B71-B3D2-0171519C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90817-EA6D-4BAC-BC06-522535C9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6787ED-575F-4DA5-A017-24F4B2A5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1D838B-B8F0-422D-95E0-72AED43C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284DF1-3648-49A3-8B5D-4E449600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BFF361-1179-4E66-93CB-9E647700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46385D-D955-4E56-A10E-3BF7C608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0D6C7B-91EF-49E9-94F2-A852CEFE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18747B-C96B-48FD-8F36-52C80824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6191A-0468-42B1-9272-0D310766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F87383-D97A-4805-BAC6-1BC44BED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3D6B-6241-4F35-80F1-F6AB07E1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77929A-A1C8-4655-9661-A57F2DBF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EAAB3E-DBA5-4368-85EB-8B1685D6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63C4B4-F43A-4780-9E58-8B4252A2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B8E6F-1BE3-4712-94C7-64CFC1EE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96956-5F7C-4060-9F7D-5A423126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3F0DB-ACEF-4213-B337-FA94534B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09C21-DEE2-4440-8DD9-1BDDF004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71C21-904B-4C93-A17D-9878AEE6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1EE14-848E-44B0-BFA9-0D078FF5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DB0D6-CF2A-42DC-9C83-B5D44D2D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7AE-9F80-4208-89AA-D2DAD862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AEB6F-90DD-4C49-B224-E070AE9C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DF9D1-185F-4E4D-BD5E-AD2A6B25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EC192-CBFD-4DF6-9F77-4516F1CB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2712A-B856-4EC4-BDEA-DB8CD4B1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43D9B-08A0-450E-B5AA-41D712CD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CE6EE-8FCB-4FEE-BC4E-94308EFE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154C3-A9D5-4AA3-8B83-A6E57232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DEF1E-67B6-40CD-9A4E-338C5A23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5B18F-55F7-447D-A936-9D3FA428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9E043-278D-4258-9244-86290C94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16F0-0681-4508-BD6E-0B19E506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0C1E5-6B63-4519-A752-D7352CD8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123A6-FDB2-4CD2-9EC1-ECBDD996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0119F-0D4C-42A7-9024-FC53E159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EE446-2687-40C5-A9CD-A19132E5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4812E-FABA-4713-ABA9-032017F2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655E6-B0E9-4AB3-BE45-4BB37FF2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2B030-9CB1-4822-93C6-2A56781F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6BD75-F56B-4305-BA25-54EF8DBC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55CEB-B6E3-4214-BE57-A59E7EE1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9ECA0-EB86-45FE-9339-D6203368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F657-CBDC-4C0A-8BBD-9EC4F0BE3E6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6617-6E68-4F93-BD5F-ACA86895779E}" type="slidenum">
              <a:rPr b="0" lang="zh-TW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7424-8911-4DC7-9F69-21B2D4E4550C}" type="datetime">
              <a:rPr b="0" lang="zh-TW" sz="1000" spc="-1" strike="noStrike">
                <a:solidFill>
                  <a:srgbClr val="ffffff"/>
                </a:solidFill>
                <a:latin typeface="Tahoma"/>
              </a:rPr>
              <a:t>115/07/29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87FC-7DFD-477B-AF5E-2035D4D6DECE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E4BF-5B8E-4F59-86F9-78D463F35BF7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CC45-8FCE-49FD-BBE0-1EDD8477FDEC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6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7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4838-2F92-4A1F-8832-2A015DC8DC95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ftr" idx="18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18D9-F857-4568-B253-2BF0D8B3DBD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AB1E-27CA-429B-AC7B-CEB3D55231B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7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A81E-BF3B-4330-8BC5-E8D900D93AAF}" type="datetime">
              <a:rPr b="0" lang="zh-TW" sz="1000" spc="-1" strike="noStrike">
                <a:solidFill>
                  <a:srgbClr val="ffffff"/>
                </a:solidFill>
                <a:latin typeface="Tahoma"/>
              </a:rPr>
              <a:t>115/07/29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38C4-C6E2-47D8-9786-ED51DFFD6767}" type="slidenum">
              <a:rPr b="0" lang="zh-TW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dc3"/>
                </a:solidFill>
                <a:latin typeface="Tw Cen MT"/>
              </a:rPr>
              <a:t>LEARNER AND TEACHER AUTONOMY IN LANGUAGE EDUCATION</a:t>
            </a:r>
            <a:endParaRPr b="0" lang="en-US" sz="4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2340000" y="2997360"/>
            <a:ext cx="6804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新細明體"/>
              </a:rPr>
              <a:t>KWOK Chee Ying Henry 10401474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新細明體"/>
              </a:rPr>
              <a:t>LAM Yan Yin Felix 10401210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新細明體"/>
              </a:rPr>
              <a:t>LAU Tik Sang Dickson 09401482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新細明體"/>
              </a:rPr>
              <a:t>LEE Chi Leung Edmund 10401237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新細明體"/>
              </a:rPr>
              <a:t>TAM Ming Sum Sammy 09401490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inking togeth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33440" y="174420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1512720" y="2421000"/>
            <a:ext cx="1798920" cy="15127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apacity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self-dir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8"/>
          <p:cNvSpPr/>
          <p:nvPr/>
        </p:nvSpPr>
        <p:spPr>
          <a:xfrm>
            <a:off x="3457440" y="2421000"/>
            <a:ext cx="1871640" cy="1512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Freedom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ontrol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their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9"/>
          <p:cNvSpPr/>
          <p:nvPr/>
        </p:nvSpPr>
        <p:spPr>
          <a:xfrm>
            <a:off x="3457440" y="3933720"/>
            <a:ext cx="1871640" cy="14400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apacity to gr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learner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0"/>
          <p:cNvSpPr/>
          <p:nvPr/>
        </p:nvSpPr>
        <p:spPr>
          <a:xfrm>
            <a:off x="1512720" y="3933720"/>
            <a:ext cx="1800360" cy="14400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ble to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 the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1"/>
          <p:cNvSpPr/>
          <p:nvPr/>
        </p:nvSpPr>
        <p:spPr>
          <a:xfrm>
            <a:off x="5472000" y="2421000"/>
            <a:ext cx="1800360" cy="15127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apacity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self-dir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teacher-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2"/>
          <p:cNvSpPr/>
          <p:nvPr/>
        </p:nvSpPr>
        <p:spPr>
          <a:xfrm>
            <a:off x="5472000" y="3933720"/>
            <a:ext cx="1800360" cy="14400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o be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utono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lea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3"/>
          <p:cNvSpPr/>
          <p:nvPr/>
        </p:nvSpPr>
        <p:spPr>
          <a:xfrm>
            <a:off x="1511280" y="1773360"/>
            <a:ext cx="57610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order to </a:t>
            </a: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promote learner autonom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achers may need to ha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7"/>
          <p:cNvSpPr/>
          <p:nvPr/>
        </p:nvSpPr>
        <p:spPr>
          <a:xfrm flipH="1">
            <a:off x="1727280" y="5373720"/>
            <a:ext cx="4897440" cy="936720"/>
          </a:xfrm>
          <a:custGeom>
            <a:avLst/>
            <a:gdLst>
              <a:gd name="textAreaLeft" fmla="*/ 1007280 w 4897440"/>
              <a:gd name="textAreaRight" fmla="*/ 3387600 w 489744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86" hR="21600" stAng="10800000" swAng="-5400000"/>
                <a:lnTo>
                  <a:pt x="10499" y="21600"/>
                </a:lnTo>
                <a:arcTo wR="8886" hR="21600" stAng="5400000" swAng="-2959596"/>
                <a:lnTo>
                  <a:pt x="21092" y="7199"/>
                </a:lnTo>
                <a:lnTo>
                  <a:pt x="18578" y="0"/>
                </a:lnTo>
                <a:lnTo>
                  <a:pt x="15047" y="7199"/>
                </a:lnTo>
                <a:lnTo>
                  <a:pt x="17263" y="7199"/>
                </a:lnTo>
                <a:arcTo wR="8886" hR="21600" stAng="2440404" swAng="2830766"/>
                <a:lnTo>
                  <a:pt x="9692" y="21511"/>
                </a:lnTo>
                <a:arcTo wR="8886" hR="21600" stAng="5528830" swAng="5271170"/>
                <a:close/>
              </a:path>
              <a:path fill="darkenLess" w="21600" h="21600">
                <a:moveTo>
                  <a:pt x="0" y="0"/>
                </a:moveTo>
                <a:arcTo wR="8886" hR="21600" stAng="10800000" swAng="-5400000"/>
                <a:lnTo>
                  <a:pt x="10499" y="21600"/>
                </a:lnTo>
                <a:arcTo wR="8886" hR="21600" stAng="5400000" swAng="128830"/>
                <a:lnTo>
                  <a:pt x="9692" y="21511"/>
                </a:lnTo>
                <a:arcTo wR="8886" hR="21600" stAng="5528830" swAng="5271170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8"/>
          <p:cNvSpPr/>
          <p:nvPr/>
        </p:nvSpPr>
        <p:spPr>
          <a:xfrm>
            <a:off x="71280" y="2060640"/>
            <a:ext cx="1368720" cy="316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Pedag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for f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aut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20"/>
          <p:cNvSpPr/>
          <p:nvPr/>
        </p:nvSpPr>
        <p:spPr>
          <a:xfrm>
            <a:off x="7345440" y="2133720"/>
            <a:ext cx="1439640" cy="316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with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as a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22"/>
          <p:cNvSpPr/>
          <p:nvPr/>
        </p:nvSpPr>
        <p:spPr>
          <a:xfrm rot="17909400">
            <a:off x="3399120" y="4798440"/>
            <a:ext cx="317160" cy="1270080"/>
          </a:xfrm>
          <a:prstGeom prst="upArrow">
            <a:avLst>
              <a:gd name="adj1" fmla="val 50000"/>
              <a:gd name="adj2" fmla="val 10011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23"/>
          <p:cNvSpPr/>
          <p:nvPr/>
        </p:nvSpPr>
        <p:spPr>
          <a:xfrm>
            <a:off x="4176720" y="5157720"/>
            <a:ext cx="392040" cy="432000"/>
          </a:xfrm>
          <a:prstGeom prst="upArrow">
            <a:avLst>
              <a:gd name="adj1" fmla="val 50000"/>
              <a:gd name="adj2" fmla="val 275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24"/>
          <p:cNvSpPr/>
          <p:nvPr/>
        </p:nvSpPr>
        <p:spPr>
          <a:xfrm rot="5400000">
            <a:off x="1316520" y="2545560"/>
            <a:ext cx="392040" cy="431640"/>
          </a:xfrm>
          <a:prstGeom prst="upArrow">
            <a:avLst>
              <a:gd name="adj1" fmla="val 50000"/>
              <a:gd name="adj2" fmla="val 2752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5"/>
          <p:cNvSpPr/>
          <p:nvPr/>
        </p:nvSpPr>
        <p:spPr>
          <a:xfrm rot="16200000">
            <a:off x="7149240" y="2511720"/>
            <a:ext cx="392040" cy="432000"/>
          </a:xfrm>
          <a:prstGeom prst="upArrow">
            <a:avLst>
              <a:gd name="adj1" fmla="val 50000"/>
              <a:gd name="adj2" fmla="val 2754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6"/>
          <p:cNvSpPr/>
          <p:nvPr/>
        </p:nvSpPr>
        <p:spPr>
          <a:xfrm>
            <a:off x="2604960" y="6334200"/>
            <a:ext cx="357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acher Education (e.g. PG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7"/>
          <p:cNvSpPr/>
          <p:nvPr/>
        </p:nvSpPr>
        <p:spPr>
          <a:xfrm>
            <a:off x="6121440" y="5373720"/>
            <a:ext cx="2593800" cy="1295280"/>
          </a:xfrm>
          <a:custGeom>
            <a:avLst/>
            <a:gdLst>
              <a:gd name="textAreaLeft" fmla="*/ 0 w 2593800"/>
              <a:gd name="textAreaRight" fmla="*/ 2109600 w 2593800"/>
              <a:gd name="textAreaTop" fmla="*/ 106848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6029" y="0"/>
                </a:moveTo>
                <a:lnTo>
                  <a:pt x="10458" y="6512"/>
                </a:lnTo>
                <a:lnTo>
                  <a:pt x="14490" y="6512"/>
                </a:lnTo>
                <a:lnTo>
                  <a:pt x="14490" y="17816"/>
                </a:lnTo>
                <a:lnTo>
                  <a:pt x="0" y="17816"/>
                </a:lnTo>
                <a:lnTo>
                  <a:pt x="0" y="21600"/>
                </a:lnTo>
                <a:lnTo>
                  <a:pt x="17568" y="21600"/>
                </a:lnTo>
                <a:lnTo>
                  <a:pt x="17568" y="6512"/>
                </a:lnTo>
                <a:lnTo>
                  <a:pt x="21600" y="6512"/>
                </a:lnTo>
                <a:lnTo>
                  <a:pt x="16029" y="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28"/>
          <p:cNvSpPr/>
          <p:nvPr/>
        </p:nvSpPr>
        <p:spPr>
          <a:xfrm flipH="1">
            <a:off x="71280" y="5373720"/>
            <a:ext cx="2592720" cy="1295280"/>
          </a:xfrm>
          <a:custGeom>
            <a:avLst/>
            <a:gdLst>
              <a:gd name="textAreaLeft" fmla="*/ 0 w 2592720"/>
              <a:gd name="textAreaRight" fmla="*/ 2108880 w 2592720"/>
              <a:gd name="textAreaTop" fmla="*/ 106848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6029" y="0"/>
                </a:moveTo>
                <a:lnTo>
                  <a:pt x="10458" y="6512"/>
                </a:lnTo>
                <a:lnTo>
                  <a:pt x="14490" y="6512"/>
                </a:lnTo>
                <a:lnTo>
                  <a:pt x="14490" y="17816"/>
                </a:lnTo>
                <a:lnTo>
                  <a:pt x="0" y="17816"/>
                </a:lnTo>
                <a:lnTo>
                  <a:pt x="0" y="21600"/>
                </a:lnTo>
                <a:lnTo>
                  <a:pt x="17568" y="21600"/>
                </a:lnTo>
                <a:lnTo>
                  <a:pt x="17568" y="6512"/>
                </a:lnTo>
                <a:lnTo>
                  <a:pt x="21600" y="6512"/>
                </a:lnTo>
                <a:lnTo>
                  <a:pt x="16029" y="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29"/>
          <p:cNvSpPr/>
          <p:nvPr/>
        </p:nvSpPr>
        <p:spPr>
          <a:xfrm>
            <a:off x="3946680" y="5386320"/>
            <a:ext cx="865080" cy="863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x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ri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2"/>
          <p:cNvSpPr/>
          <p:nvPr/>
        </p:nvSpPr>
        <p:spPr>
          <a:xfrm>
            <a:off x="7145280" y="148428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SYCHOLO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3"/>
          <p:cNvSpPr/>
          <p:nvPr/>
        </p:nvSpPr>
        <p:spPr>
          <a:xfrm>
            <a:off x="2160" y="148428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TECH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4"/>
          <p:cNvSpPr/>
          <p:nvPr/>
        </p:nvSpPr>
        <p:spPr>
          <a:xfrm>
            <a:off x="4731480" y="53737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OL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Group 17"/>
          <p:cNvGrpSpPr/>
          <p:nvPr/>
        </p:nvGrpSpPr>
        <p:grpSpPr>
          <a:xfrm>
            <a:off x="252360" y="4148280"/>
            <a:ext cx="5040000" cy="2592000"/>
            <a:chOff x="252360" y="4148280"/>
            <a:chExt cx="5040000" cy="2592000"/>
          </a:xfrm>
        </p:grpSpPr>
        <p:sp>
          <p:nvSpPr>
            <p:cNvPr id="488" name="Rectangle 4"/>
            <p:cNvSpPr/>
            <p:nvPr/>
          </p:nvSpPr>
          <p:spPr>
            <a:xfrm>
              <a:off x="408600" y="4148280"/>
              <a:ext cx="4627080" cy="4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75f55"/>
                  </a:solidFill>
                  <a:latin typeface="Calibri"/>
                </a:rPr>
                <a:t>Constrai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5"/>
            <p:cNvSpPr/>
            <p:nvPr/>
          </p:nvSpPr>
          <p:spPr>
            <a:xfrm>
              <a:off x="779040" y="4399200"/>
              <a:ext cx="109260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6"/>
            <p:cNvSpPr/>
            <p:nvPr/>
          </p:nvSpPr>
          <p:spPr>
            <a:xfrm>
              <a:off x="4098600" y="5056200"/>
              <a:ext cx="109224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tudent diver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7"/>
            <p:cNvSpPr/>
            <p:nvPr/>
          </p:nvSpPr>
          <p:spPr>
            <a:xfrm>
              <a:off x="252360" y="5712840"/>
              <a:ext cx="109260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Lack of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8"/>
            <p:cNvSpPr/>
            <p:nvPr/>
          </p:nvSpPr>
          <p:spPr>
            <a:xfrm>
              <a:off x="373680" y="4970520"/>
              <a:ext cx="109260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Fami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9"/>
            <p:cNvSpPr/>
            <p:nvPr/>
          </p:nvSpPr>
          <p:spPr>
            <a:xfrm>
              <a:off x="3045960" y="4570920"/>
              <a:ext cx="109224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lassro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Discip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0"/>
            <p:cNvSpPr/>
            <p:nvPr/>
          </p:nvSpPr>
          <p:spPr>
            <a:xfrm>
              <a:off x="1062000" y="5427000"/>
              <a:ext cx="109224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orkl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1"/>
            <p:cNvSpPr/>
            <p:nvPr/>
          </p:nvSpPr>
          <p:spPr>
            <a:xfrm>
              <a:off x="3167280" y="5998320"/>
              <a:ext cx="109260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ED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12"/>
            <p:cNvSpPr/>
            <p:nvPr/>
          </p:nvSpPr>
          <p:spPr>
            <a:xfrm>
              <a:off x="1507320" y="4827960"/>
              <a:ext cx="109260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13"/>
            <p:cNvSpPr/>
            <p:nvPr/>
          </p:nvSpPr>
          <p:spPr>
            <a:xfrm>
              <a:off x="1832400" y="6026760"/>
              <a:ext cx="109224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School Polit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14"/>
            <p:cNvSpPr/>
            <p:nvPr/>
          </p:nvSpPr>
          <p:spPr>
            <a:xfrm>
              <a:off x="2316960" y="5198760"/>
              <a:ext cx="1620000" cy="114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Ex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Orien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Cul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15"/>
            <p:cNvSpPr/>
            <p:nvPr/>
          </p:nvSpPr>
          <p:spPr>
            <a:xfrm>
              <a:off x="3875040" y="5569920"/>
              <a:ext cx="1417320" cy="959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Scheme of 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16"/>
            <p:cNvSpPr/>
            <p:nvPr/>
          </p:nvSpPr>
          <p:spPr>
            <a:xfrm>
              <a:off x="3976920" y="4456440"/>
              <a:ext cx="109260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Class siz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Oval 18"/>
          <p:cNvSpPr/>
          <p:nvPr/>
        </p:nvSpPr>
        <p:spPr>
          <a:xfrm>
            <a:off x="179280" y="1628640"/>
            <a:ext cx="6120000" cy="215928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Teacher Auton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2"/>
          <p:cNvSpPr/>
          <p:nvPr/>
        </p:nvSpPr>
        <p:spPr>
          <a:xfrm>
            <a:off x="2556000" y="3427560"/>
            <a:ext cx="215640" cy="792000"/>
          </a:xfrm>
          <a:prstGeom prst="downArrow">
            <a:avLst>
              <a:gd name="adj1" fmla="val 50000"/>
              <a:gd name="adj2" fmla="val 9182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23"/>
          <p:cNvSpPr/>
          <p:nvPr/>
        </p:nvSpPr>
        <p:spPr>
          <a:xfrm>
            <a:off x="4284720" y="3427560"/>
            <a:ext cx="4753080" cy="122364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earner Aut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5"/>
          <p:cNvSpPr/>
          <p:nvPr/>
        </p:nvSpPr>
        <p:spPr>
          <a:xfrm rot="3006600">
            <a:off x="4680360" y="3175920"/>
            <a:ext cx="936720" cy="576000"/>
          </a:xfrm>
          <a:prstGeom prst="leftRightArrow">
            <a:avLst>
              <a:gd name="adj1" fmla="val 50000"/>
              <a:gd name="adj2" fmla="val 323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6"/>
          <p:cNvSpPr/>
          <p:nvPr/>
        </p:nvSpPr>
        <p:spPr>
          <a:xfrm>
            <a:off x="5724360" y="5011560"/>
            <a:ext cx="3097440" cy="158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Better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28"/>
          <p:cNvSpPr/>
          <p:nvPr/>
        </p:nvSpPr>
        <p:spPr>
          <a:xfrm>
            <a:off x="6156360" y="4579920"/>
            <a:ext cx="93672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1"/>
          <p:cNvSpPr/>
          <p:nvPr/>
        </p:nvSpPr>
        <p:spPr>
          <a:xfrm>
            <a:off x="6951240" y="457992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otiv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2"/>
          <p:cNvSpPr/>
          <p:nvPr/>
        </p:nvSpPr>
        <p:spPr>
          <a:xfrm>
            <a:off x="6014160" y="299556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ife-long Le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3"/>
          <p:cNvSpPr/>
          <p:nvPr/>
        </p:nvSpPr>
        <p:spPr>
          <a:xfrm>
            <a:off x="5919120" y="181944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reating Sp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34"/>
          <p:cNvSpPr/>
          <p:nvPr/>
        </p:nvSpPr>
        <p:spPr>
          <a:xfrm>
            <a:off x="1045800" y="291780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Attitudes, Skills, and Knowledge (AS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35"/>
          <p:cNvSpPr/>
          <p:nvPr/>
        </p:nvSpPr>
        <p:spPr>
          <a:xfrm>
            <a:off x="3502440" y="198756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TECH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36"/>
          <p:cNvSpPr/>
          <p:nvPr/>
        </p:nvSpPr>
        <p:spPr>
          <a:xfrm>
            <a:off x="1188720" y="198108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SYCHOLO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7"/>
          <p:cNvSpPr/>
          <p:nvPr/>
        </p:nvSpPr>
        <p:spPr>
          <a:xfrm>
            <a:off x="1023120" y="37879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OL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38"/>
          <p:cNvSpPr/>
          <p:nvPr/>
        </p:nvSpPr>
        <p:spPr>
          <a:xfrm flipV="1">
            <a:off x="2771640" y="3425760"/>
            <a:ext cx="2016360" cy="938160"/>
          </a:xfrm>
          <a:custGeom>
            <a:avLst/>
            <a:gdLst>
              <a:gd name="textAreaLeft" fmla="*/ 1159920 w 2016360"/>
              <a:gd name="textAreaRight" fmla="*/ 1724400 w 2016360"/>
              <a:gd name="textAreaTop" fmla="*/ 153720 h 938160"/>
              <a:gd name="textAreaBottom" fmla="*/ 374040 h 9381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095" y="0"/>
                </a:lnTo>
                <a:lnTo>
                  <a:pt x="14095" y="3545"/>
                </a:lnTo>
                <a:lnTo>
                  <a:pt x="12427" y="3545"/>
                </a:lnTo>
                <a:cubicBezTo>
                  <a:pt x="5564" y="3545"/>
                  <a:pt x="0" y="7401"/>
                  <a:pt x="0" y="12158"/>
                </a:cubicBezTo>
                <a:lnTo>
                  <a:pt x="0" y="21600"/>
                </a:lnTo>
                <a:lnTo>
                  <a:pt x="5180" y="21600"/>
                </a:lnTo>
                <a:lnTo>
                  <a:pt x="5180" y="12158"/>
                </a:lnTo>
                <a:cubicBezTo>
                  <a:pt x="5180" y="10200"/>
                  <a:pt x="8425" y="8613"/>
                  <a:pt x="12427" y="8613"/>
                </a:cubicBezTo>
                <a:lnTo>
                  <a:pt x="14095" y="8613"/>
                </a:lnTo>
                <a:lnTo>
                  <a:pt x="14095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inking togeth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dc3"/>
                </a:solidFill>
                <a:latin typeface="Tw Cen MT"/>
              </a:rPr>
              <a:t>LANGUAGE TEACHING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2340000" y="2997360"/>
            <a:ext cx="6804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Autonomy in ELT?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Autonomy vs. Metho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395280" y="1700280"/>
          <a:ext cx="8586720" cy="4525920"/>
        </p:xfrm>
        <a:graphic>
          <a:graphicData uri="http://schemas.openxmlformats.org/drawingml/2006/table">
            <a:tbl>
              <a:tblPr/>
              <a:tblGrid>
                <a:gridCol w="1224000"/>
                <a:gridCol w="1638360"/>
                <a:gridCol w="1431720"/>
                <a:gridCol w="1430280"/>
                <a:gridCol w="1432080"/>
                <a:gridCol w="143028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ramma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ransla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rect Method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udio-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ngu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L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B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ateri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utono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0" name="Picture 90" descr="MC900326908[1]"/>
          <p:cNvPicPr/>
          <p:nvPr/>
        </p:nvPicPr>
        <p:blipFill>
          <a:blip r:embed="rId1"/>
          <a:stretch/>
        </p:blipFill>
        <p:spPr>
          <a:xfrm>
            <a:off x="1692360" y="3429000"/>
            <a:ext cx="912600" cy="9129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91" descr="MC900326908[1]"/>
          <p:cNvPicPr/>
          <p:nvPr/>
        </p:nvPicPr>
        <p:blipFill>
          <a:blip r:embed="rId2"/>
          <a:stretch/>
        </p:blipFill>
        <p:spPr>
          <a:xfrm>
            <a:off x="7596360" y="3429000"/>
            <a:ext cx="912600" cy="912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92" descr="MC900326908[1]"/>
          <p:cNvPicPr/>
          <p:nvPr/>
        </p:nvPicPr>
        <p:blipFill>
          <a:blip r:embed="rId3"/>
          <a:stretch/>
        </p:blipFill>
        <p:spPr>
          <a:xfrm>
            <a:off x="6156360" y="3429000"/>
            <a:ext cx="912600" cy="9129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93" descr="MC900326908[1]"/>
          <p:cNvPicPr/>
          <p:nvPr/>
        </p:nvPicPr>
        <p:blipFill>
          <a:blip r:embed="rId4"/>
          <a:stretch/>
        </p:blipFill>
        <p:spPr>
          <a:xfrm>
            <a:off x="4716360" y="3429000"/>
            <a:ext cx="912960" cy="9129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4" descr="MC900326908[1]"/>
          <p:cNvPicPr/>
          <p:nvPr/>
        </p:nvPicPr>
        <p:blipFill>
          <a:blip r:embed="rId5"/>
          <a:stretch/>
        </p:blipFill>
        <p:spPr>
          <a:xfrm>
            <a:off x="3276720" y="3429000"/>
            <a:ext cx="912600" cy="9129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95" descr="MM900336396[1]"/>
          <p:cNvPicPr/>
          <p:nvPr/>
        </p:nvPicPr>
        <p:blipFill>
          <a:blip r:embed="rId6"/>
          <a:stretch/>
        </p:blipFill>
        <p:spPr>
          <a:xfrm>
            <a:off x="1835280" y="5084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96" descr="MM900336396[1]"/>
          <p:cNvPicPr/>
          <p:nvPr/>
        </p:nvPicPr>
        <p:blipFill>
          <a:blip r:embed="rId7"/>
          <a:stretch/>
        </p:blipFill>
        <p:spPr>
          <a:xfrm>
            <a:off x="7740720" y="5084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7" descr="MM900336396[1]"/>
          <p:cNvPicPr/>
          <p:nvPr/>
        </p:nvPicPr>
        <p:blipFill>
          <a:blip r:embed="rId8"/>
          <a:stretch/>
        </p:blipFill>
        <p:spPr>
          <a:xfrm>
            <a:off x="6300720" y="5084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98" descr="MM900336396[1]"/>
          <p:cNvPicPr/>
          <p:nvPr/>
        </p:nvPicPr>
        <p:blipFill>
          <a:blip r:embed="rId9"/>
          <a:stretch/>
        </p:blipFill>
        <p:spPr>
          <a:xfrm>
            <a:off x="4932360" y="5084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99" descr="MM900336396[1]"/>
          <p:cNvPicPr/>
          <p:nvPr/>
        </p:nvPicPr>
        <p:blipFill>
          <a:blip r:embed="rId10"/>
          <a:stretch/>
        </p:blipFill>
        <p:spPr>
          <a:xfrm>
            <a:off x="3492360" y="5157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Autonomy in Language Teach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Grammar translation metho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Assigned teaching materia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Little autonom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Direct metho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Find examples from every day vocabulary and senten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Little autonom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Audio-lingual metho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Follow model dialogue and teach through repetition &amp; drill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Little autonom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Autonomy in Language Teach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Communicative Language Teach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It is unified but broadly based, theoretically well informed set of tenets about the nature of language learning and teaching.” (Brown H.D. 2001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Design learning activities and tasks involving real-life communic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Autonom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Autonomy in Language Teach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Task based learn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Skehan’s (1998) concept of TB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Meaning is prima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Communication problem to solv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Relationship to comparable real-world activit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Task comple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Assessment of the task in terms of outcome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Select authentic materia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Autonom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Summary (Autonomy vs. Method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395280" y="1628640"/>
          <a:ext cx="8586720" cy="4525920"/>
        </p:xfrm>
        <a:graphic>
          <a:graphicData uri="http://schemas.openxmlformats.org/drawingml/2006/table">
            <a:tbl>
              <a:tblPr/>
              <a:tblGrid>
                <a:gridCol w="1224000"/>
                <a:gridCol w="1638360"/>
                <a:gridCol w="1431720"/>
                <a:gridCol w="1430280"/>
                <a:gridCol w="1432080"/>
                <a:gridCol w="1430280"/>
              </a:tblGrid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ramma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ransla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rect Method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udio-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ngu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L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B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ateri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signed &amp; prepared in adv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xamples from every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epetition &amp; dril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esign learning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uthen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utono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8" name="Picture 35" descr="MC900434713[1]"/>
          <p:cNvPicPr/>
          <p:nvPr/>
        </p:nvPicPr>
        <p:blipFill>
          <a:blip r:embed="rId1"/>
          <a:stretch/>
        </p:blipFill>
        <p:spPr>
          <a:xfrm>
            <a:off x="6156360" y="4869000"/>
            <a:ext cx="922320" cy="9666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6" descr="MC900434713[1]"/>
          <p:cNvPicPr/>
          <p:nvPr/>
        </p:nvPicPr>
        <p:blipFill>
          <a:blip r:embed="rId2"/>
          <a:stretch/>
        </p:blipFill>
        <p:spPr>
          <a:xfrm>
            <a:off x="7524720" y="4869000"/>
            <a:ext cx="922320" cy="9666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7" descr="MC900434713[1]"/>
          <p:cNvPicPr/>
          <p:nvPr/>
        </p:nvPicPr>
        <p:blipFill>
          <a:blip r:embed="rId3"/>
          <a:stretch/>
        </p:blipFill>
        <p:spPr>
          <a:xfrm>
            <a:off x="3132000" y="4724280"/>
            <a:ext cx="646200" cy="6778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8" descr="MC900432537[1]"/>
          <p:cNvPicPr/>
          <p:nvPr/>
        </p:nvPicPr>
        <p:blipFill>
          <a:blip r:embed="rId4"/>
          <a:stretch/>
        </p:blipFill>
        <p:spPr>
          <a:xfrm>
            <a:off x="3708360" y="5373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9" descr="MC900432537[1]"/>
          <p:cNvPicPr/>
          <p:nvPr/>
        </p:nvPicPr>
        <p:blipFill>
          <a:blip r:embed="rId5"/>
          <a:stretch/>
        </p:blipFill>
        <p:spPr>
          <a:xfrm>
            <a:off x="1692360" y="48690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40" descr="MC900432537[1]"/>
          <p:cNvPicPr/>
          <p:nvPr/>
        </p:nvPicPr>
        <p:blipFill>
          <a:blip r:embed="rId6"/>
          <a:stretch/>
        </p:blipFill>
        <p:spPr>
          <a:xfrm>
            <a:off x="4643280" y="4870440"/>
            <a:ext cx="1008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dc3"/>
                </a:solidFill>
                <a:latin typeface="Tw Cen MT"/>
              </a:rPr>
              <a:t>SHARING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Hen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After school enhancement classes (S3 &amp; S6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Drilling on TSA/ HKCEE / HKALE / HKDSE past pap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  <a:ea typeface="新細明體"/>
              </a:rPr>
              <a:t>No autonomy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After school enhancement classes (S1, S2, S4, S5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Less Drilling on past pap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Flexible group activities &amp; gam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  <a:ea typeface="新細明體"/>
              </a:rPr>
              <a:t>Autonomy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dc3"/>
                </a:solidFill>
                <a:latin typeface="Tw Cen MT"/>
              </a:rPr>
              <a:t>WHAT IS YOUR GOAL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2340000" y="2997360"/>
            <a:ext cx="6804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as an English Teacher?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Australian Primary School NE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yllabus and teaching materials from EDB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(Primary Literacy Reading Program – PLP-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(Primary Literacy Reading/Writing Program – PLP-R/W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Autonomy in group activities &amp; games with P1 &amp; P2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touch the word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tailor-made chess boa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baseball score ca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CVC (Consonants Vowels Consonants ) word gam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singing the “left &amp; right” songs, letter songs, etc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Felix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Time limi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Syllabus, lesson time, assessments, etc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Belief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If you believe, you wil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Encourage refle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What” to express before “how”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Ne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Cultural: teacher’s responsibility (</a:t>
            </a:r>
            <a:r>
              <a:rPr b="0" lang="fi-FI" sz="2000" spc="-1" strike="noStrike">
                <a:solidFill>
                  <a:srgbClr val="000000"/>
                </a:solidFill>
                <a:latin typeface="Tw Cen MT"/>
              </a:rPr>
              <a:t>Sakai, Takagi and Chu 2010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Dicks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2720" y="1483920"/>
            <a:ext cx="85312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cheme of work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Form coordinators deliver the scheme of work to form teachers.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Have to finish teaching the units and specific items within the assigned period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Teacher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Design worksheets, hangouts and any other teaching materials other than the textbooks in order to fit the needs of their own classe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Always encourage and reinforce students that they are capable and smart enough to learn mo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Assign more challenging tasks and teach more advanced level ite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Dicks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believe they are capable so they are willing to accept extra task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develop a habit that reading Young Post and write down new vocabulary items on their ‘Learning Log’ every day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submit news summary and reflections which are not assigned by the teacher.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apply those new items in their writing and speaking task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Edmun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Creating spaces out of constrain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Teach Junior High if possibl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Try to pick the essentials to teach from the Scheme of Wor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Spare as much free time to discuss the weekly new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Learner autonomy – true believer of self-directed learn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Weekly reading and writing as a habi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Reading (Authentic Materials – One news article weekly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Writing (News report - encourage students’ reflection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Insist on marking with feedbacks on their weekly writing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Exam-oriented culture as the external driv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am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Background of the schoo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Band 3 secondary schoo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connection between the local school and the American Lutheran Church.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partment of International Interfa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merican volunteers visit the campus by promoting Christianity and English learning through playing games, singing songs, visiting local families, participating in the lessons, etc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Sam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eacher autonomy promotes learner autonomy through: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upport by the Princip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articipating several activities with the volunteers from the US (sightseeing, dining, worshipping, etc.)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munication &gt; learning English for exa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Sam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eacher Autonom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straint (Senior secondary school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ociety: Expect HKDSE takers have certain proficiency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arents: Expect the school has more drilling and practi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urriculum: Senior form ( preparing for the HKDSE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ime constraint : Remedial classes for different subjec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easible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Junior form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anguage ar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ppreciation and enjoyment of the languag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merican studies lesson (culture, living style, activities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acebook connection with the US volunteer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Sam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ot everyone in the school has the opportunity to participate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ble to create the space to enhance both teacher and student autonomy in junior level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nhancing the autonomy in their early age would strength the possibility of the development of whole-life learn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dc3"/>
                </a:solidFill>
                <a:latin typeface="Tw Cen MT"/>
              </a:rPr>
              <a:t>AUTONOMY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2340000" y="2997360"/>
            <a:ext cx="6804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Creating space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dc3"/>
                </a:solidFill>
                <a:latin typeface="Tw Cen MT"/>
              </a:rPr>
              <a:t>DISCUSS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2340000" y="2997360"/>
            <a:ext cx="6804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How can you create more spaces for yourself?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dc3"/>
                </a:solidFill>
                <a:latin typeface="Tw Cen MT"/>
              </a:rPr>
              <a:t>REFERENCE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  <a:ea typeface="新細明體"/>
              </a:rPr>
              <a:t>Reference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12720" y="1557360"/>
            <a:ext cx="85312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enson (2010). Teacher education and teacher autonomy: Creating spaces for experimentation in secondary school English Language teaching. Language Teaching Research, 14(3), 259-275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enson &amp; Huang (2008). Autonomy in the transition from foreign language learning to foreign language teaching. DELTA: Revista de Documentacao de Estudos em Linguistica Teorica e Aplicada, 421-439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rown, H. D. (2001). Teaching by principles: An interactive approach to language pedagogy (2nd Edition). New York: Addison Wesley Longma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w Cen MT"/>
              </a:rPr>
              <a:t>Sakai, S., Takagi, A., Chu, M.P. (2010),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omoting Learner Autonomy: Student Perceptions of Responsibilities in a Language Classroom in East Asia. </a:t>
            </a:r>
            <a:r>
              <a:rPr b="0" lang="pt-BR" sz="2000" spc="-1" strike="noStrike">
                <a:solidFill>
                  <a:srgbClr val="000000"/>
                </a:solidFill>
                <a:latin typeface="Tw Cen MT"/>
              </a:rPr>
              <a:t>Educational Perspectives v43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Skehan, P. (1998). A cognitive approach to language learning. Oxford: Oxford University Pres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Smith R.C. (2003). Teacher education for teacher-learner autonomy. Centre for English Language Teacher Education (CELTE). University of Warwick. UK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Tahoma"/>
              </a:rPr>
              <a:t>~~~Thank you~~~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Constrai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Oval 5"/>
          <p:cNvSpPr/>
          <p:nvPr/>
        </p:nvSpPr>
        <p:spPr>
          <a:xfrm>
            <a:off x="1116000" y="907920"/>
            <a:ext cx="194328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7"/>
          <p:cNvSpPr/>
          <p:nvPr/>
        </p:nvSpPr>
        <p:spPr>
          <a:xfrm>
            <a:off x="7020000" y="2565360"/>
            <a:ext cx="194292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udent d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8"/>
          <p:cNvSpPr/>
          <p:nvPr/>
        </p:nvSpPr>
        <p:spPr>
          <a:xfrm>
            <a:off x="179280" y="4221000"/>
            <a:ext cx="194328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ck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9"/>
          <p:cNvSpPr/>
          <p:nvPr/>
        </p:nvSpPr>
        <p:spPr>
          <a:xfrm>
            <a:off x="395280" y="2349360"/>
            <a:ext cx="194328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5148360" y="1341360"/>
            <a:ext cx="194292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ci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11"/>
          <p:cNvSpPr/>
          <p:nvPr/>
        </p:nvSpPr>
        <p:spPr>
          <a:xfrm>
            <a:off x="1619280" y="3500280"/>
            <a:ext cx="194292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2"/>
          <p:cNvSpPr/>
          <p:nvPr/>
        </p:nvSpPr>
        <p:spPr>
          <a:xfrm>
            <a:off x="5364000" y="4941720"/>
            <a:ext cx="194328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D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3"/>
          <p:cNvSpPr/>
          <p:nvPr/>
        </p:nvSpPr>
        <p:spPr>
          <a:xfrm>
            <a:off x="2411280" y="1989000"/>
            <a:ext cx="194328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4"/>
          <p:cNvSpPr/>
          <p:nvPr/>
        </p:nvSpPr>
        <p:spPr>
          <a:xfrm>
            <a:off x="2989440" y="5013360"/>
            <a:ext cx="194292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hool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5"/>
          <p:cNvSpPr/>
          <p:nvPr/>
        </p:nvSpPr>
        <p:spPr>
          <a:xfrm>
            <a:off x="3851280" y="2924280"/>
            <a:ext cx="2881440" cy="28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rie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6"/>
          <p:cNvSpPr/>
          <p:nvPr/>
        </p:nvSpPr>
        <p:spPr>
          <a:xfrm>
            <a:off x="6622920" y="3860640"/>
            <a:ext cx="2521080" cy="2421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heme of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17"/>
          <p:cNvSpPr/>
          <p:nvPr/>
        </p:nvSpPr>
        <p:spPr>
          <a:xfrm>
            <a:off x="6804000" y="1052640"/>
            <a:ext cx="1943280" cy="1800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ass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Teacher Autono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AutoShape 4"/>
          <p:cNvSpPr/>
          <p:nvPr/>
        </p:nvSpPr>
        <p:spPr>
          <a:xfrm>
            <a:off x="611280" y="1557360"/>
            <a:ext cx="5257800" cy="1584360"/>
          </a:xfrm>
          <a:prstGeom prst="cloudCallout">
            <a:avLst>
              <a:gd name="adj1" fmla="val -16092"/>
              <a:gd name="adj2" fmla="val 74250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nson (2000) ‘right to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freed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ntro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3924360" y="2997360"/>
            <a:ext cx="5041800" cy="1728720"/>
          </a:xfrm>
          <a:prstGeom prst="cloudCallout">
            <a:avLst>
              <a:gd name="adj1" fmla="val -25032"/>
              <a:gd name="adj2" fmla="val 67449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ttle (1995) ‘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capac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o engag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elf-directed teach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8"/>
          <p:cNvSpPr/>
          <p:nvPr/>
        </p:nvSpPr>
        <p:spPr>
          <a:xfrm>
            <a:off x="1042920" y="5229360"/>
            <a:ext cx="5184720" cy="1368360"/>
          </a:xfrm>
          <a:prstGeom prst="cloudCallout">
            <a:avLst>
              <a:gd name="adj1" fmla="val 10041"/>
              <a:gd name="adj2" fmla="val -8178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ith (2000) ‘teachers’ autonomy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learne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Teacher Autono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Aoki (2000) ‘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autonomous teachers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ff"/>
                </a:solidFill>
                <a:latin typeface="Tw Cen MT"/>
                <a:ea typeface="新細明體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ff"/>
                </a:solidFill>
                <a:latin typeface="Tw Cen MT"/>
                <a:ea typeface="新細明體"/>
              </a:rPr>
              <a:t>freedom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responsibility to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make choices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concerning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one’s own teaching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Learner Autono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Would it be great if students can learn by themselves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Misconception: ‘learning </a:t>
            </a:r>
            <a:r>
              <a:rPr b="0" lang="en-US" sz="2800" spc="-1" strike="noStrike">
                <a:solidFill>
                  <a:srgbClr val="0000ff"/>
                </a:solidFill>
                <a:latin typeface="Tw Cen MT"/>
                <a:ea typeface="新細明體"/>
              </a:rPr>
              <a:t>without a teacher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Little (1991) ‘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for taking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control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of learning’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85312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Teacher Autonomy Dimens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12720" y="1557360"/>
            <a:ext cx="85312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Classroom-based approach to the development of learner autonomy (Sinclair 2000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Prominence of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learner autonomy as a go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Promoting learner autonom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tructuring and scaffolding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reflective learn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Learning ‘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pedagogy for autonomy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’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are to learn to </a:t>
            </a:r>
            <a:r>
              <a:rPr b="0" lang="en-US" sz="2800" spc="-1" strike="noStrike">
                <a:solidFill>
                  <a:srgbClr val="0000ff"/>
                </a:solidFill>
                <a:latin typeface="Tw Cen MT"/>
                <a:ea typeface="新細明體"/>
              </a:rPr>
              <a:t>take control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teacher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may need to </a:t>
            </a:r>
            <a:r>
              <a:rPr b="0" lang="en-US" sz="2800" spc="-1" strike="noStrike">
                <a:solidFill>
                  <a:srgbClr val="0000ff"/>
                </a:solidFill>
                <a:latin typeface="Tw Cen MT"/>
                <a:ea typeface="新細明體"/>
              </a:rPr>
              <a:t>let go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468360" y="5805360"/>
            <a:ext cx="8675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  <a:ea typeface="新細明體"/>
              </a:rPr>
              <a:t>Reflection: When to let go, when to contr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85312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Teacher Autonomy Dimens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612720" y="1600200"/>
          <a:ext cx="8423280" cy="5141880"/>
        </p:xfrm>
        <a:graphic>
          <a:graphicData uri="http://schemas.openxmlformats.org/drawingml/2006/table">
            <a:tbl>
              <a:tblPr/>
              <a:tblGrid>
                <a:gridCol w="2808360"/>
                <a:gridCol w="2806560"/>
                <a:gridCol w="2808360"/>
              </a:tblGrid>
              <a:tr h="563400"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PSYCHOLO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TECHN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POLI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7760"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strong sense of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personal responsibility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continuous reflection and analys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pedagogical skill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n be ac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unifor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taff development programs &amp;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classroom observ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720"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ty for self-directed professional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ty for self-directed professional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evelo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reedom from control by other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 professional action or develop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3:06:20Z</dcterms:created>
  <dc:creator>Henry Kwok</dc:creator>
  <dc:description/>
  <dc:language>en-US</dc:language>
  <cp:lastModifiedBy>St. Paul's College</cp:lastModifiedBy>
  <dcterms:modified xsi:type="dcterms:W3CDTF">2012-02-27T03:37:28Z</dcterms:modified>
  <cp:revision>47</cp:revision>
  <dc:subject/>
  <dc:title>Slide 1</dc:title>
</cp:coreProperties>
</file>